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3365-2E4F-4EF9-9AE0-51C7ABF54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9EF5-0539-437E-ADA7-1D0849913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7C8C-1B86-47A8-ABF7-CD0E1801A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5EDA-7C6D-40A9-800A-7718DB0F8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C1704-7569-43CB-A493-A8961ED8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FB1C5-7E64-4972-875D-72939B27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48155-04FE-4C6B-979A-4359A0B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8B793-04AA-411F-B6AE-A9FA84B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09CCE-7828-489E-BE96-68ABDE2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11EA-EEF7-4F9F-8CAC-54982FA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370B5-E898-4BD8-832D-9CBE8FC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1C36-F2C7-4F7E-83A9-0D78A8B26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C977E-30CD-45CD-AE92-DEFE428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23DFE-FC12-4C0C-B8BA-7F7E40D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B1738-0E93-4C12-9A9A-607C6CD5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98ACF-01B2-4C0E-A1B8-8796E413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5912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137480"/>
            <a:ext cx="264924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7F71-ECA8-4A7F-9FDB-FF8A4489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981D-3587-4866-A83C-A231FC35F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FC58-956B-40B9-9F22-C49A18A11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65FA-9541-4BAA-A4CC-AE0FDAF6C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7F48-7114-4C0F-9085-657C216C4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BA23-30EE-4652-8BA0-ED71E4F43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3748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D755-40B4-4313-9E53-00C8628C3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59120"/>
            <a:ext cx="401508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7480"/>
            <a:ext cx="8228160" cy="1989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8F70-E1D4-4C21-8259-F7747A72B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62ECE-D8A6-4A68-894C-C4369107752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9120"/>
            <a:ext cx="82281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DA47F-39F8-4657-96E5-0B993E7CC87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bc.co.uk/news/technology-17152225" TargetMode="External"/><Relationship Id="rId3" Type="http://schemas.openxmlformats.org/officeDocument/2006/relationships/hyperlink" Target="http://blogs.wsj.com/tech-europe/2012/02/27/apples-push-email-service-disabled-in-germany/" TargetMode="External"/><Relationship Id="rId4" Type="http://schemas.openxmlformats.org/officeDocument/2006/relationships/hyperlink" Target="http://www.reuters.com/article/2012/04/13/net-us-apple-motorola-idUSBRE83C0YL20120413" TargetMode="External"/><Relationship Id="rId5" Type="http://schemas.openxmlformats.org/officeDocument/2006/relationships/hyperlink" Target="http://reefersmoke.com/2012/08/teens-busted-when-pictures-found-of-them-smoking-cannabis/" TargetMode="External"/><Relationship Id="rId6" Type="http://schemas.openxmlformats.org/officeDocument/2006/relationships/hyperlink" Target="http://www.engadget.com/2012/02/24/icloud-and-mobileme-email-down-in-germany/" TargetMode="External"/><Relationship Id="rId7" Type="http://schemas.openxmlformats.org/officeDocument/2006/relationships/hyperlink" Target="http://www.guardian.co.uk/technology/2012/feb/24/apple-iphone-email-germany" TargetMode="External"/><Relationship Id="rId8" Type="http://schemas.openxmlformats.org/officeDocument/2006/relationships/hyperlink" Target="http://reefersmoke.com/2012/08/teens-busted-when-pictures-found-of-them-smoking-cannabis/" TargetMode="Externa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Ema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Rodrig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iAnsw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states that users should reconfigure their devices or simply not check their email in German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is in this dilemma because they were using another company’s technology to advertise their produc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Bibliograp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www.bbc.co.uk/news/technology-171522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http://blogs.wsj.com/tech-europe/2012/02/27/apples-push-email-service-disabled-in-germany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4"/>
              </a:rPr>
              <a:t>http://www.reuters.com/article/2012/04/13/net-us-apple-motorola-idUSBRE83C0YL2012041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5"/>
              </a:rPr>
              <a:t>http://reefersmoke.com/2012/08/teens-busted-when-pictures-found-of-them-smoking-cannabis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6"/>
              </a:rPr>
              <a:t>http://www.engadget.com/2012/02/24/icloud-and-mobileme-email-down-in-germany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7"/>
              </a:rPr>
              <a:t>http://www.guardian.co.uk/technology/2012/feb/24/apple-iphone-email-german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8"/>
              </a:rPr>
              <a:t>http://reefersmoke.com/2012/08/teens-busted-when-pictures-found-of-them-smoking-cannabis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The iphone and ipad can be set to check for new mail at set intervals or until mail is released from the devi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Ne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The device will no longer check for mail at set intervals or when mail is released, even though other services in Germany such as Microsoft will still perform this tas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’s Opin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believes that Motorola Mobility’s patent is invalid and is appealing the decision.” -Ap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’s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encourages for Mobileme and iCloud users to reconfigure their ipad or ipho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Solution cont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Apple also suggests that Mobileme users create an iCloud account or simply not check their email in German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8321760" y="-2700360"/>
            <a:ext cx="90075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also suggests that Mobileme users create an iCloud account or simply not check their email in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90840" y="3429000"/>
            <a:ext cx="43815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’s Dec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Due to this service removal Apple has decided to remove products from German stor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Dilemm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The court of Manheim confirmed a ruling that Apple owes Motorola for using a patented technology to inform Apple customers of new produc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iQui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What is Apple’s solution to the problem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Arial Unicode MS"/>
              </a:rPr>
              <a:t>Why is Apple in this dilemma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2:13:56Z</dcterms:created>
  <dc:creator>SCSadmin</dc:creator>
  <dc:description/>
  <dc:language>en-US</dc:language>
  <cp:lastModifiedBy>SCSadmin</cp:lastModifiedBy>
  <dcterms:modified xsi:type="dcterms:W3CDTF">2012-08-23T17:01:32Z</dcterms:modified>
  <cp:revision>4</cp:revision>
  <dc:subject/>
  <dc:title>Apple Email</dc:title>
</cp:coreProperties>
</file>